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820-24E6-4262-A256-4BAC72EB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433-2497-4DFD-8E47-31A9822D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45A-1FC2-4A45-B971-97EF4891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43E-FC70-4391-9C06-1B01A24C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729-5E4A-4D4F-9670-934ADF7D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856-CD87-486A-A4BD-1C9BC986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BE5-0210-47AC-9CEB-860ED7EC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DCB-3979-440D-A2FB-097B451C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C99-1523-4D54-A3DE-D33EDE18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812-23A7-43F7-9124-F96351C3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62B-85FF-47D7-A70D-8D9DADC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193-9952-4207-8FBE-3DA15F6B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4011-88AE-4882-B17C-05EFF2F80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 Len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almy Cedeño-Nay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e Jo Chiar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toria Hartran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y Steinme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 Refl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a lens that more of your Engaged Learner Qualities fit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use the information from today in your buil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nformation was brought to you from the Penn Literacy Network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coop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H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4290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ies of an Engaged Lear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2705040" cy="2533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18288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Post It Notes, list qualities you would find in an engaged lear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Sp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ist of words at your table to write three to five lines about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000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ly read the selection that is on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complete what an engaged learner would look like or sound like using your specific lens. (can include does not look like and does not sound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4800600"/>
            <a:ext cx="2286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427680" y="727200"/>
            <a:ext cx="9770400" cy="6456240"/>
            <a:chOff x="-427680" y="727200"/>
            <a:chExt cx="9770400" cy="6456240"/>
          </a:xfrm>
        </p:grpSpPr>
        <p:sp>
          <p:nvSpPr>
            <p:cNvPr id="56" name="_s7174"/>
            <p:cNvSpPr/>
            <p:nvPr/>
          </p:nvSpPr>
          <p:spPr>
            <a:xfrm>
              <a:off x="3146400" y="1645200"/>
              <a:ext cx="2624400" cy="26240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7175"/>
            <p:cNvSpPr/>
            <p:nvPr/>
          </p:nvSpPr>
          <p:spPr>
            <a:xfrm>
              <a:off x="3301200" y="727200"/>
              <a:ext cx="23126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7181"/>
            <p:cNvSpPr/>
            <p:nvPr/>
          </p:nvSpPr>
          <p:spPr>
            <a:xfrm>
              <a:off x="4145760" y="2644200"/>
              <a:ext cx="2624400" cy="26240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7182"/>
            <p:cNvSpPr/>
            <p:nvPr/>
          </p:nvSpPr>
          <p:spPr>
            <a:xfrm>
              <a:off x="7030080" y="3629160"/>
              <a:ext cx="231264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7176"/>
            <p:cNvSpPr/>
            <p:nvPr/>
          </p:nvSpPr>
          <p:spPr>
            <a:xfrm>
              <a:off x="3146400" y="3643560"/>
              <a:ext cx="2624400" cy="26240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177"/>
            <p:cNvSpPr/>
            <p:nvPr/>
          </p:nvSpPr>
          <p:spPr>
            <a:xfrm>
              <a:off x="3301200" y="6527880"/>
              <a:ext cx="23126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7178"/>
            <p:cNvSpPr/>
            <p:nvPr/>
          </p:nvSpPr>
          <p:spPr>
            <a:xfrm>
              <a:off x="2146680" y="2644200"/>
              <a:ext cx="2624400" cy="2624040"/>
            </a:xfrm>
            <a:prstGeom prst="ellipse">
              <a:avLst/>
            </a:prstGeom>
            <a:solidFill>
              <a:srgbClr val="01bd0a">
                <a:alpha val="50000"/>
              </a:srgbClr>
            </a:solidFill>
            <a:ln w="936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179"/>
            <p:cNvSpPr/>
            <p:nvPr/>
          </p:nvSpPr>
          <p:spPr>
            <a:xfrm>
              <a:off x="-427680" y="3629160"/>
              <a:ext cx="231264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114800" y="3657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97280" y="194148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ing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0400" y="36939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50480" y="354168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73240" y="5522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 Post it Notes by 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your Qualities of an engaged Learner on the Respective Looks Like/Sounds Like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1123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During 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Sp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ing qualities to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55:42Z</dcterms:created>
  <dc:creator>chiarelb</dc:creator>
  <dc:description/>
  <dc:language>en-US</dc:language>
  <cp:lastModifiedBy>chiarelb</cp:lastModifiedBy>
  <dcterms:modified xsi:type="dcterms:W3CDTF">2011-12-06T18:32:59Z</dcterms:modified>
  <cp:revision>3</cp:revision>
  <dc:subject/>
  <dc:title>The Four Lenses </dc:title>
</cp:coreProperties>
</file>